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9.jpeg" ContentType="image/jpeg"/>
  <Override PartName="/ppt/media/image11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5.png" ContentType="image/png"/>
  <Override PartName="/ppt/media/image5.jpeg" ContentType="image/jpeg"/>
  <Override PartName="/ppt/media/image7.png" ContentType="image/png"/>
  <Override PartName="/ppt/media/image36.png" ContentType="image/png"/>
  <Override PartName="/ppt/media/image41.jpeg" ContentType="image/jpeg"/>
  <Override PartName="/ppt/media/image4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0E8-2D26-423B-ABB2-D2CB857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5DB-9BAC-412F-B984-F4B466D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C26-3157-4FEF-9F98-89716DBE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AC5-6210-4708-A321-70CCFD7E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4A90-84F7-4F30-B576-B8DA3744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FF2D-E99A-45FA-90DB-EFC5629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C31-5551-400C-81C7-5933C2E5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C2E-CCA3-437D-BB5A-01F6EC9B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2B8-70B0-4589-A529-26961DB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3BD-6640-41FD-BF7C-402CA75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6B8-0260-44FC-BF92-08DC6F4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FFE-AB9B-4418-962B-4AC25AE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C2E0-FD3E-4888-860C-1A59F15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FEB-495F-4B3E-9DD9-6A23F8B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5A2-7238-4065-B50A-D4C45A6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9398-85AE-40D2-A5DB-4A9C39DD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284B-AD7E-4B7D-AF32-C7033533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35BD-5A61-4163-8F5F-A628DFD5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BE8B-7483-4ADA-872E-0DB292F4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671B-E522-4AFA-878B-2A77AA3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E5AA-EEA4-4422-8A33-09A34DB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D7A2-9454-4E71-8FBB-886C945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450-E5CA-487E-BA59-F5B9F2E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7E85-D034-4612-BE20-4AF837B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9DA1-35FD-4532-8F8B-ACDBD1AA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2CCD-8B8C-452F-AFE6-964FE9D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B052-7C9D-4A66-B30D-F9EE15D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0A76-9DD4-4B5F-AB58-4477FABB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44D6-82EB-4A22-85CD-49A218C4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23E5-141F-4007-BA12-43C4D813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5B87-9191-4246-B0F0-B8A917E4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855F-7200-474B-B4EA-36EDB26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7DF3-7C58-4981-91FB-19DE800D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871-9E17-44A8-B162-7D1106E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4EB9-C42B-4C79-9FD9-F5B61B11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4CEA-15B3-4B6E-A6B2-C03C812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AB76-0B79-4BBF-8B3C-49D7D576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6FDB-2AC2-4ABF-99D0-8630C9C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05FA-ECCF-4678-9894-2687BE2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CB2C-C8DB-4A07-A467-58AD678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9BB0-4948-4867-BA21-AD906AE7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B5C4-2F3E-4037-AF0B-BC55B3DA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F7E7-1BC7-405E-A4B8-78868E5D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E2250-808B-4C83-9ACB-6033865F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DE5-A7EA-4E83-922F-B7950DD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D1645-5D11-40DC-87C5-F453381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4DB6-7A0C-4853-8567-40944B8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2A20-CF73-498D-8CE3-CBD92E1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3838-3CBD-4637-9CD0-9769B1C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EFDDB-9743-4E1F-8DFC-7E4EABD9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5EF1-5FFE-4E15-8453-4E9D7B5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459C1-1875-4A79-B3FB-0109569B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3C9E-61E3-4598-80EF-A4D2C9D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CD7E-6063-4AF3-88BE-F23B770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EDF20-2EFA-44A1-BB8C-4F4F7F7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A70-C3E5-46EB-8D55-D047423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3677-1AE4-4303-BE1D-910B7DB0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A68C-8F22-4013-BDAB-1F74F147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A783-98FA-4456-9ECB-F9FFCAC5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9CFC-8CE0-40F3-B59A-6B4187A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DAE7-D2B8-4D3F-97A8-D471A93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8030-9E5E-4A3D-8E80-52DEB3B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F928-EF01-46F2-ABD6-B4E3079E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0163-AE11-4724-94B3-6208FB3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F73E-1742-4DAB-861E-CC85DEA7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840E-2243-4408-9373-EFD0313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F7B-F5B8-4CF9-B8B1-823622B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45BDE-026E-4575-8694-BA8CA6A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BEA1B-6DBE-4A32-B399-88A6C084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D490-57E9-4B40-B80B-2FEE1B46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D8F0-FB10-45D3-ADDD-16E9E71E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89F70-07BE-4FB2-88A5-D9FE27C1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F3B5-190F-422E-BD62-A6667613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ABCF-FC65-40AB-B0ED-C0C799D3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3799-533E-4D79-AC3F-A7CD6F3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D6BA7-5676-4FEC-A47A-E522FAC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B2D77-2D3D-4D10-875D-A64879C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338-D4D1-4DC3-B758-D4F33F5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AC7F-40A0-4755-85C0-61460E5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B153C-99A0-41D9-8698-AB0EEB1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8BB2-7941-43FA-AD15-F829AE5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ED94-8373-4618-83D8-50454704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EBC66-67F3-4318-BE8D-81FEA413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880A1-2F39-42F7-91BE-0B31B3F2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770A8-5AB7-4C9B-9B75-B419A3CC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DE41-B857-4D08-97C9-E01914F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5C934-FD29-4323-9911-E7C449A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74E9-6578-42B7-BF7F-79951FE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2C0-7748-4A41-9EE9-250CA20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9CB9-10AC-4F57-AA04-A18DA47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7E4F-225D-4E05-A916-C7C34DF1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70D3E-CF21-4AD7-A224-65F750E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9642-CC23-417F-9A0F-83846A2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BB201-25E4-45D5-A0D5-1DA5543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3BEB6-5F51-458C-8046-87D0C733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8071-10B8-4BD6-A71A-B21020B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623-7655-4176-A535-2E4692A985DA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9C59-EBD9-4E91-B60F-EEF55F3EDBA4}" type="slidenum"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321-09FF-4E02-B3A7-43F9719DAF98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AD9-2640-43FA-9068-AF6CFC66102E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C527-D3D5-40E1-AC5C-614AE8CE6015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C97D-2427-4099-905C-86AC59E811CB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A5A-AFA5-413B-92C2-770B684CB0DB}" type="slidenum">
              <a:rPr b="0" lang="es-PE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CDE6-E238-4E58-BC36-D30BD3EADB52}" type="slidenum">
              <a:rPr b="0" lang="es-PE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566640" y="201600"/>
            <a:ext cx="8089920" cy="993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http://www.iiccordoba.esteri.it/IIC_Cordoba/webform/..%5C..%5CIICManager%5CUpload%5CIMG%5C%5CCordoba%5CUlises.jpg"/>
          <p:cNvPicPr/>
          <p:nvPr/>
        </p:nvPicPr>
        <p:blipFill>
          <a:blip r:embed="rId2"/>
          <a:stretch/>
        </p:blipFill>
        <p:spPr>
          <a:xfrm>
            <a:off x="0" y="1071720"/>
            <a:ext cx="91184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3 Marcador de contenido" descr="ulises-y-los-pretendientes-de-penelope.jpg"/>
          <p:cNvPicPr/>
          <p:nvPr/>
        </p:nvPicPr>
        <p:blipFill>
          <a:blip r:embed="rId1"/>
          <a:stretch/>
        </p:blipFill>
        <p:spPr>
          <a:xfrm>
            <a:off x="714240" y="1857240"/>
            <a:ext cx="8334360" cy="5000760"/>
          </a:xfrm>
          <a:prstGeom prst="rect">
            <a:avLst/>
          </a:prstGeom>
          <a:ln w="0">
            <a:noFill/>
          </a:ln>
        </p:spPr>
      </p:pic>
      <p:pic>
        <p:nvPicPr>
          <p:cNvPr id="394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2"/>
          <p:cNvSpPr/>
          <p:nvPr/>
        </p:nvSpPr>
        <p:spPr>
          <a:xfrm>
            <a:off x="63360" y="-136440"/>
            <a:ext cx="4038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63360" y="-136440"/>
            <a:ext cx="4038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5 Imagen" descr="Teseo_y_el_Minotauro.jpg"/>
          <p:cNvPicPr/>
          <p:nvPr/>
        </p:nvPicPr>
        <p:blipFill>
          <a:blip r:embed="rId2"/>
          <a:stretch/>
        </p:blipFill>
        <p:spPr>
          <a:xfrm>
            <a:off x="2143080" y="1627200"/>
            <a:ext cx="55008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3 Marcador de contenido" descr="PerseoMedusaAtenea.jpg"/>
          <p:cNvPicPr/>
          <p:nvPr/>
        </p:nvPicPr>
        <p:blipFill>
          <a:blip r:embed="rId1"/>
          <a:stretch/>
        </p:blipFill>
        <p:spPr>
          <a:xfrm>
            <a:off x="2857680" y="1703520"/>
            <a:ext cx="4330440" cy="5154480"/>
          </a:xfrm>
          <a:prstGeom prst="rect">
            <a:avLst/>
          </a:prstGeom>
          <a:ln w="0">
            <a:noFill/>
          </a:ln>
        </p:spPr>
      </p:pic>
      <p:pic>
        <p:nvPicPr>
          <p:cNvPr id="400" name="2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Marcador de contenido" descr="dedalo.gif"/>
          <p:cNvPicPr/>
          <p:nvPr/>
        </p:nvPicPr>
        <p:blipFill>
          <a:blip r:embed="rId1"/>
          <a:stretch/>
        </p:blipFill>
        <p:spPr>
          <a:xfrm>
            <a:off x="1571760" y="1449360"/>
            <a:ext cx="5521320" cy="5408640"/>
          </a:xfrm>
          <a:prstGeom prst="rect">
            <a:avLst/>
          </a:prstGeom>
          <a:ln w="0">
            <a:noFill/>
          </a:ln>
        </p:spPr>
      </p:pic>
      <p:pic>
        <p:nvPicPr>
          <p:cNvPr id="402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3 Marcador de contenido" descr="5SL8VCA71JCL3CATMB548CAYLSEIRCA1VCO4DCAT333GBCAL139S4CA2GIMQBCAL05AAQCASFRG4WCAGGXOUECAJ04YHTCABCJE6WCA0ZHFTVCATY9X7ZCADR8VPSCAGI50HDCAU23VTNCA22EFO0.jpg"/>
          <p:cNvPicPr/>
          <p:nvPr/>
        </p:nvPicPr>
        <p:blipFill>
          <a:blip r:embed="rId1"/>
          <a:stretch/>
        </p:blipFill>
        <p:spPr>
          <a:xfrm>
            <a:off x="571680" y="1714680"/>
            <a:ext cx="7886520" cy="5143320"/>
          </a:xfrm>
          <a:prstGeom prst="rect">
            <a:avLst/>
          </a:prstGeom>
          <a:ln w="0">
            <a:noFill/>
          </a:ln>
        </p:spPr>
      </p:pic>
      <p:pic>
        <p:nvPicPr>
          <p:cNvPr id="404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R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oemas: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xpresan sentimientos personales o colectivos. Lírico (deriva de “lira”) Entre los más conocidos tenemo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afo: Epitalami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índaro: 44epinici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3 Imagen" descr="TX3LLCAT1VSIZCA478OKPCAKPV01HCAS2SDSLCAIVP9OZCA40YIFECAFT4EGBCARFK15GCAPKQN8BCAAD40PECAB42PVOCA6C2PJNCAK5UHQ5CARUKQ5RCAL5HRUECA76EM6BCA8FPJE3CAR9J6BB.jpg"/>
          <p:cNvPicPr/>
          <p:nvPr/>
        </p:nvPicPr>
        <p:blipFill>
          <a:blip r:embed="rId1"/>
          <a:stretch/>
        </p:blipFill>
        <p:spPr>
          <a:xfrm>
            <a:off x="5719680" y="3857760"/>
            <a:ext cx="3424320" cy="2714400"/>
          </a:xfrm>
          <a:prstGeom prst="rect">
            <a:avLst/>
          </a:prstGeom>
          <a:ln w="0">
            <a:noFill/>
          </a:ln>
        </p:spPr>
      </p:pic>
      <p:pic>
        <p:nvPicPr>
          <p:cNvPr id="407" name="4 Imagen" descr="Safo.jpg"/>
          <p:cNvPicPr/>
          <p:nvPr/>
        </p:nvPicPr>
        <p:blipFill>
          <a:blip r:embed="rId2"/>
          <a:stretch/>
        </p:blipFill>
        <p:spPr>
          <a:xfrm>
            <a:off x="3429000" y="4286160"/>
            <a:ext cx="2571840" cy="2274840"/>
          </a:xfrm>
          <a:prstGeom prst="rect">
            <a:avLst/>
          </a:prstGeom>
          <a:ln w="0">
            <a:noFill/>
          </a:ln>
        </p:spPr>
      </p:pic>
      <p:pic>
        <p:nvPicPr>
          <p:cNvPr id="408" name="5 Imagen" descr="BLS5JCA2RDGFACA0LVGP2CAF1BMJ4CAPPQDTQCA6DY1IHCASYA66MCAV12GHWCABE801DCAUQWLEDCAJKGAISCAILWMTVCAUVGC3ICAMYUQBICA4NHZ57CAJ329IDCAHGGEEHCAOZ13FVCABFKUK4.jpg"/>
          <p:cNvPicPr/>
          <p:nvPr/>
        </p:nvPicPr>
        <p:blipFill>
          <a:blip r:embed="rId3"/>
          <a:stretch/>
        </p:blipFill>
        <p:spPr>
          <a:xfrm>
            <a:off x="357120" y="4357800"/>
            <a:ext cx="271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I. 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racterístic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Nació estrechamente relacionada a la religión; se conservó gracias a la tradición oral y a la gran capacidad de los aedas que recitaban de memoria los miles de vers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os dioses parecen “humanizados”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naturaleza siempre está pres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ivaron todos los géneros literari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cribieron en griego clásico y koiné. (una lengua popular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nden culto a la belleza y a la armoní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Y ahora te toca investigar… (Para la próxima clas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scribe (en el paréntesis) la letra que relaciona autor y obr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dipo rey                                    (      ) Anónim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Iliada                                           (      ) Herodot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s ranas pidiendo rey a Zeus    (      ) Sófo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Oda a la zegarra                          (      ) Plató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Nueve libros de historia               (      ) Homer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l banquete                                  (     ) Esop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Narciso                                         (     ) Anacreon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Mito de Sísifo                               (     ) Eurípid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s nubes                                     (     ) Aristófan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Medea                                           (     ) Saf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scribe alguna característica de estos seres mitológico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Atenea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íclope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irce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an Cerbero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Gorgona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Hades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ueden s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caja de pando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romet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os trabajos de Hércu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Dido y Ene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erséf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Perseo y la Gorg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Dédalo e Íca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Obra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odis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Ili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La Enei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Edipo Re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2 Título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3091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Perseo y la Gorgona Parte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Lucida Sans Unicode"/>
              </a:rPr>
              <a:t>YouTube - El Narrador de Cuentos - Dédalo e Icaro Parte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00040" y="356760"/>
            <a:ext cx="82296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Lucida Sans Unicode"/>
              </a:rPr>
              <a:t>EPICA GRIEGA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Epopey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Narraciones épicas escritas en verso, atribuidas a Homero: La Iliada, Odisea. Compuestas para ser escuchada, relatan acontecimientos colectivos grandiosos y hazañas de héroes colectivos. Ambas vinculadas a la guerra de Troya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Mitologí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Conjunto de relatos que tratan de explicar el origen de las cosas, seres de la naturaleza, el universo. Ejm: Prometeo, Perseo y la Gorgona, Teseo y el Minotauro, Ícaro y Dédalo, Pandora, Orfeo y Eurídice, etc. Sus autores son desconocidos. 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Fábulas:</a:t>
            </a:r>
            <a:r>
              <a:rPr b="0" lang="es-ES" sz="2500" spc="-1" strike="noStrike">
                <a:solidFill>
                  <a:srgbClr val="000000"/>
                </a:solidFill>
                <a:latin typeface="Lucida Sans Unicode"/>
              </a:rPr>
              <a:t> Relato breve y ficticio, donde aparecen como personajes animales con características humanas. Su didáctica es enseñar por ello, tiene una moraleja: El más famoso fabulista griego es Esopo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2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www.rmm.cl/usuarios/jriff/imagen/200508152053280.dioses%20griegos.jpg"/>
          <p:cNvPicPr/>
          <p:nvPr/>
        </p:nvPicPr>
        <p:blipFill>
          <a:blip r:embed="rId2"/>
          <a:stretch/>
        </p:blipFill>
        <p:spPr>
          <a:xfrm>
            <a:off x="0" y="142884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2 Título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bienmesabe.org/revista_uploads/TradicionOral.jpg"/>
          <p:cNvPicPr/>
          <p:nvPr/>
        </p:nvPicPr>
        <p:blipFill>
          <a:blip r:embed="rId2"/>
          <a:stretch/>
        </p:blipFill>
        <p:spPr>
          <a:xfrm>
            <a:off x="0" y="1143000"/>
            <a:ext cx="4429080" cy="5000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blog.pucp.edu.pe/media/124/20080307-portada%2050.jpg"/>
          <p:cNvPicPr/>
          <p:nvPr/>
        </p:nvPicPr>
        <p:blipFill>
          <a:blip r:embed="rId3"/>
          <a:stretch/>
        </p:blipFill>
        <p:spPr>
          <a:xfrm>
            <a:off x="4410000" y="1143000"/>
            <a:ext cx="473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2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web.tiscali.it/lamitologia/olimpo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3 Marcador de contenido" descr="CAVGWA0RCAUNWL8NCAJRW9XECAXSCL1SCAEXES21CANSWGOTCAGDRO6NCAJ417I9CA1VLR1ZCAI485N7CAWEQVUZCAJ9JO6VCA0W8OL4CAGWIFRLCAC7OENKCA6K3KJ9CAAJYUMCCACSZRCU.jpg"/>
          <p:cNvPicPr/>
          <p:nvPr/>
        </p:nvPicPr>
        <p:blipFill>
          <a:blip r:embed="rId1"/>
          <a:stretch/>
        </p:blipFill>
        <p:spPr>
          <a:xfrm>
            <a:off x="0" y="100008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381" name="2 Título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conciencia-animal.cl/paginas/temas/fotos/hada%20pintura%2004.jpg"/>
          <p:cNvPicPr/>
          <p:nvPr/>
        </p:nvPicPr>
        <p:blipFill>
          <a:blip r:embed="rId3"/>
          <a:stretch/>
        </p:blipFill>
        <p:spPr>
          <a:xfrm>
            <a:off x="4133880" y="1143000"/>
            <a:ext cx="5010120" cy="5715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blogs.librodearena.com/myfiles/ladamadescubierta/41pic2.jpg"/>
          <p:cNvPicPr/>
          <p:nvPr/>
        </p:nvPicPr>
        <p:blipFill>
          <a:blip r:embed="rId4"/>
          <a:stretch/>
        </p:blipFill>
        <p:spPr>
          <a:xfrm>
            <a:off x="0" y="4071960"/>
            <a:ext cx="40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2 Título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://www.miniweb.com.br/Historia/artigos/i_antiga/Alfabeto%20griego_arquivos/gantigu2.gif"/>
          <p:cNvPicPr/>
          <p:nvPr/>
        </p:nvPicPr>
        <p:blipFill>
          <a:blip r:embed="rId2"/>
          <a:stretch/>
        </p:blipFill>
        <p:spPr>
          <a:xfrm>
            <a:off x="5869080" y="1357200"/>
            <a:ext cx="3274920" cy="5500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sites.google.com/site/lahistoriadelalengua/_/rsrc/1223302773243/yufufujfuyfyufyu/gclasico3.gif"/>
          <p:cNvPicPr/>
          <p:nvPr/>
        </p:nvPicPr>
        <p:blipFill>
          <a:blip r:embed="rId3"/>
          <a:stretch/>
        </p:blipFill>
        <p:spPr>
          <a:xfrm>
            <a:off x="0" y="1285920"/>
            <a:ext cx="5924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20081207215149-707014251-07c2403f0d-o.jpg"/>
          <p:cNvPicPr/>
          <p:nvPr/>
        </p:nvPicPr>
        <p:blipFill>
          <a:blip r:embed="rId1"/>
          <a:stretch/>
        </p:blipFill>
        <p:spPr>
          <a:xfrm>
            <a:off x="0" y="4751280"/>
            <a:ext cx="2714760" cy="210672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199720" cy="8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renacimientomusita.googlepages.com/Fororomano.jpg"/>
          <p:cNvPicPr/>
          <p:nvPr/>
        </p:nvPicPr>
        <p:blipFill>
          <a:blip r:embed="rId3"/>
          <a:stretch/>
        </p:blipFill>
        <p:spPr>
          <a:xfrm>
            <a:off x="4643280" y="4929120"/>
            <a:ext cx="4500720" cy="1928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copepodo.files.wordpress.com/2007/01/bellezamujer.JPG"/>
          <p:cNvPicPr/>
          <p:nvPr/>
        </p:nvPicPr>
        <p:blipFill>
          <a:blip r:embed="rId4"/>
          <a:stretch/>
        </p:blipFill>
        <p:spPr>
          <a:xfrm>
            <a:off x="0" y="928800"/>
            <a:ext cx="914400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Marcador de contenido" descr="8497644905_01_LZZZZZZZ.jpg"/>
          <p:cNvPicPr/>
          <p:nvPr/>
        </p:nvPicPr>
        <p:blipFill>
          <a:blip r:embed="rId1"/>
          <a:stretch/>
        </p:blipFill>
        <p:spPr>
          <a:xfrm>
            <a:off x="1357200" y="1481040"/>
            <a:ext cx="6286680" cy="5315040"/>
          </a:xfrm>
          <a:prstGeom prst="rect">
            <a:avLst/>
          </a:prstGeom>
          <a:ln w="0">
            <a:noFill/>
          </a:ln>
        </p:spPr>
      </p:pic>
      <p:pic>
        <p:nvPicPr>
          <p:cNvPr id="392" name="2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8:32Z</dcterms:created>
  <dc:creator>ELIZABETH</dc:creator>
  <dc:description/>
  <dc:language>en-US</dc:language>
  <cp:lastModifiedBy>Computo</cp:lastModifiedBy>
  <dcterms:modified xsi:type="dcterms:W3CDTF">2009-10-28T14:51:23Z</dcterms:modified>
  <cp:revision>17</cp:revision>
  <dc:subject/>
  <dc:title>Literatura clásica</dc:title>
</cp:coreProperties>
</file>